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F73F-D604-40A8-9975-2AE262D48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FCAF-0A7D-4360-9C3F-34EAE4E8A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BA04-AA2B-4FE2-BBAD-8394A22B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0F2C-972B-47D5-8874-C5EECFB1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6CEF-2FFA-4426-B4C9-36E1EBE3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2654-6FA0-4B32-8B6E-ED020DE04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435F-C80D-40F9-889C-46BD523E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609F-4FB1-4511-B49D-B7F189FF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0D81-65A2-4EA0-A8E4-E5A053DD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B417-C112-4C42-A2D8-20A765A7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DEC7-6821-48C1-9AA7-DFB63BDC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3700-11FB-434B-8719-09983D35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FC7C-6120-4E90-A0E6-08B146FF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9786-D86A-44A0-A7CE-C135079D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9E20-0DFC-42A8-A647-F1BC0DC1B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eram Awada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80880" y="2438280"/>
            <a:ext cx="121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eram (24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380880" y="2666880"/>
            <a:ext cx="121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era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457200" y="289548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eram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76320" y="3581280"/>
            <a:ext cx="17524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Mi nombre es Meram. Yo vivo en New York City. Tengo 14 años. Tengo uno hermano. Soy es joven, graciosa y activ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645080"/>
            <a:ext cx="568440" cy="822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64508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724280"/>
            <a:ext cx="439560" cy="62892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00400"/>
            <a:ext cx="36576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1981080" y="1905120"/>
            <a:ext cx="198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3T14:59:12Z</dcterms:modified>
  <cp:revision>104</cp:revision>
  <dc:subject/>
  <dc:title>Profile</dc:title>
</cp:coreProperties>
</file>